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FFBB-C51E-4868-B9F0-7414FD53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9DCB-1FA3-486A-9CBA-FF22A9DA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E87E-ED99-41C7-BFDC-E449F4AE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F736-D0E4-4243-979C-B09A3041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FED9-CC71-41D2-8B7A-41D684C3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5B6E-4809-40A3-88CB-C157686C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86C-3D09-49EB-8D89-0F4402C8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FBA-063F-4AD2-B068-F5EFBB8B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8AC8-945A-4E95-B884-0B673378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3714-27BD-4FB9-BEF2-12BCCE5A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AFFA-45AE-4944-867B-1F9C022B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906A-BD57-42EC-AEDD-3F730892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7137-5D45-4572-92B6-178E0DD22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_ Clase 8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8 de octubre de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# 10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repasamos la geograf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de los mapas (p.9 y 10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actica Escri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en el cuad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Tabl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is, Capital, Ubic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8:59:48Z</dcterms:created>
  <dc:creator>Helen Zumaeta</dc:creator>
  <dc:description/>
  <dc:language>en-US</dc:language>
  <cp:lastModifiedBy>Helen Zumaeta</cp:lastModifiedBy>
  <dcterms:modified xsi:type="dcterms:W3CDTF">2012-10-18T21:58:09Z</dcterms:modified>
  <cp:revision>3</cp:revision>
  <dc:subject/>
  <dc:title>Me llamo __________ Clase 8IM La fecha es el 18 de octubre del 2012</dc:title>
</cp:coreProperties>
</file>